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847-A1C4-4F2C-A64D-849AD399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0DE-1633-41C0-9894-06C08BCE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4D2-4260-4851-990A-E9844D29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204-47C8-4276-A888-9323E135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DB28-6693-44E4-B3F9-B8164C57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EAC3-7561-41A6-9FD5-3C27D66C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73E2-CF0B-4A0E-81B5-6B8E04C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AD2-4E39-4071-BAAD-9D8F2686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7EE5-44D1-427A-8086-500BCCDD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ABA7-D357-4284-8824-458BE977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21EC-E789-4F2F-808B-B09C320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27F-1D83-47B2-98EF-A1A7A96E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970D-09B4-4A6E-82F8-4551F1E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1C6C-CF10-4FEB-9C19-7E60E5F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2A97-240B-45BE-B080-07D5A981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DCD3-5435-4D78-AD55-FFADB60A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4C3-55B1-4DFC-8023-8C7F3108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568-2487-4F6B-9EA1-77076638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608-3BA4-4135-BCFC-2821AD03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718-1887-4ABA-A9D8-165E2DA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ABD-2ABC-4B1B-8570-B9133131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50C-34B6-4123-8823-B9A5C38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89E-922A-4E10-9744-D36E916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302-C0DB-453D-A178-2BF7798E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5556" r="0" b="23335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037A-C30B-4DE9-9D91-15C685E9BE49}" type="slidenum">
              <a:rPr b="0" lang="en-US" sz="14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9165" t="11112" r="9165" b="11112"/>
            <a:stretch/>
          </p:blipFill>
          <p:spPr>
            <a:xfrm>
              <a:off x="838080" y="762120"/>
              <a:ext cx="7467840" cy="53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4AE-A77C-4693-B4CF-9C7C7A48D184}" type="slidenum">
              <a:rPr b="0" lang="en-US" sz="14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Compatibility 6 Full-Adder Topologies  with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1" i="1" lang="en-US" sz="4400" spc="-1" strike="noStrike" baseline="-25000">
                <a:solidFill>
                  <a:srgbClr val="333399"/>
                </a:solidFill>
                <a:latin typeface="Calibri"/>
              </a:rPr>
              <a:t>DD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 Stacking</a:t>
            </a:r>
            <a:endParaRPr b="1" lang="en-US" sz="4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alibri"/>
              </a:rPr>
              <a:t>By Wenlu Sun &amp; Jiyati Verma</a:t>
            </a:r>
            <a:endParaRPr b="0" lang="en-US" sz="28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hursday, December 1, 2011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ECE 6332 – VLSI Desig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inal Project Presentatio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Simulation Results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11669" r="0" b="0"/>
          <a:stretch/>
        </p:blipFill>
        <p:spPr>
          <a:xfrm>
            <a:off x="1657440" y="2819520"/>
            <a:ext cx="5810040" cy="4038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CMOS Adder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05 to 1.05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9.55% above and 4.5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10184" r="0" b="0"/>
          <a:stretch/>
        </p:blipFill>
        <p:spPr>
          <a:xfrm>
            <a:off x="1657440" y="2743200"/>
            <a:ext cx="582912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Mirror Full Adder (M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148 to 0.985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4.36% above and 10.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8946" r="0" b="0"/>
          <a:stretch/>
        </p:blipFill>
        <p:spPr>
          <a:xfrm>
            <a:off x="685800" y="2819520"/>
            <a:ext cx="777240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Function Adder (T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95 to 1.049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17.7% above and 4.63% below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Gate Adder (TG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65 to 0.79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4.1% above and 28.2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3836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1 (Dyn1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35 to 0.7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1.4% above and 36.4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2 (Dyn2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406 to 0.861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7.8% above and 21.7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ll together now…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Static CMOS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9.55%/-4.55% (Avg: 7.05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M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4.36%/-10.5% (Avg: 7.43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17.7%/-4.63% (Avg: 11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2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7.8%/-21.7% (Avg: 24.8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G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4.1%/-28.2% (Avg: 26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1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1.4%/-36.4% (Avg: 28.9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akeaways / Conclus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tatic adders are the best!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ynamic adders compromise stability for speed, which is needed in Stacked-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esigns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Out of transmission logic adders, TFA does the best balancing of current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Any Questions?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Overview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urpos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ll Adder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dence Implementation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mulation Result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akeaway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alibri"/>
              </a:rPr>
              <a:t>V</a:t>
            </a:r>
            <a:r>
              <a:rPr b="1" i="1" lang="en-US" sz="4000" spc="-1" strike="noStrike" baseline="-25000">
                <a:solidFill>
                  <a:srgbClr val="0066ff"/>
                </a:solidFill>
                <a:latin typeface="Calibri"/>
              </a:rPr>
              <a:t>DD</a:t>
            </a: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 Stacking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866880"/>
            <a:ext cx="5486400" cy="599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Noise Reduction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ttenuates Power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Dissipated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pplication of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Stacked-</a:t>
            </a:r>
            <a:r>
              <a:rPr b="0" i="1" lang="en-US" sz="24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to adders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Purpose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o minimize the fluctuation of 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Which full adder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topology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 does this the best? 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n we make any generalizations </a:t>
            </a:r>
            <a:br>
              <a:rPr sz="3200"/>
            </a:b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in those decisions?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10320" y="4091040"/>
            <a:ext cx="253368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2666880"/>
            <a:ext cx="1295640" cy="762120"/>
          </a:xfrm>
          <a:prstGeom prst="wedgeEllipseCallout">
            <a:avLst>
              <a:gd name="adj1" fmla="val 55393"/>
              <a:gd name="adj2" fmla="val -51458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tat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971800"/>
            <a:ext cx="2590920" cy="914400"/>
          </a:xfrm>
          <a:prstGeom prst="wedgeEllipseCallout">
            <a:avLst>
              <a:gd name="adj1" fmla="val -6310"/>
              <a:gd name="adj2" fmla="val -86287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ransmiss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Gat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666880"/>
            <a:ext cx="1752480" cy="762120"/>
          </a:xfrm>
          <a:prstGeom prst="wedgeEllipseCallout">
            <a:avLst>
              <a:gd name="adj1" fmla="val -58240"/>
              <a:gd name="adj2" fmla="val -49375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Dynam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Full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600880" cy="288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5667480" cy="2781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tic CMO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Mirror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Logic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nction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Gate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18120" y="1447920"/>
            <a:ext cx="2368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41960" y="4267080"/>
            <a:ext cx="2301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NP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MOS 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ndard Fare (#1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uggested From a Paper(#2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295920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adence Implementat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alibri"/>
              </a:rPr>
              <a:t>Claim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: When inputs of FA0 and FA1 swing in opposite directions, then the greatest amount of noise occurs at the output causing the most imbalanced V</a:t>
            </a:r>
            <a:r>
              <a:rPr b="0" lang="en-US" sz="24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conditions.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2724120"/>
            <a:ext cx="8391600" cy="22287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6320" y="1447920"/>
            <a:ext cx="8610480" cy="4724280"/>
            <a:chOff x="76320" y="1447920"/>
            <a:chExt cx="8610480" cy="4724280"/>
          </a:xfrm>
        </p:grpSpPr>
        <p:sp>
          <p:nvSpPr>
            <p:cNvPr id="115" name=""/>
            <p:cNvSpPr/>
            <p:nvPr/>
          </p:nvSpPr>
          <p:spPr>
            <a:xfrm>
              <a:off x="76320" y="1447920"/>
              <a:ext cx="861048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1981080"/>
              <a:ext cx="3124080" cy="3200400"/>
            </a:xfrm>
            <a:prstGeom prst="rect">
              <a:avLst/>
            </a:prstGeom>
            <a:noFill/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33526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  <a:ea typeface="Arial"/>
                </a:rPr>
                <a:t>–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62320" y="1752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1752480"/>
              <a:ext cx="152280" cy="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3880" y="2438280"/>
              <a:ext cx="914400" cy="762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0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8280" y="27050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8280" y="29336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0920" y="277344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1640" y="25448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3880" y="3962520"/>
              <a:ext cx="914400" cy="761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41148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43434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6920" y="4572000"/>
              <a:ext cx="15696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8280" y="42292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8280" y="44578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31600" y="39625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0440" y="41911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920" y="429732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1640" y="40687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5120" y="3505320"/>
              <a:ext cx="152280" cy="15228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486400" y="5181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5371920" y="5333760"/>
              <a:ext cx="228600" cy="22860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1840" y="33670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3443400"/>
              <a:ext cx="14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800600" y="4267080"/>
              <a:ext cx="1519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0" idx="0"/>
              <a:endCxn id="128" idx="0"/>
            </p:cNvCxnSpPr>
            <p:nvPr/>
          </p:nvCxnSpPr>
          <p:spPr>
            <a:xfrm>
              <a:off x="4871880" y="4419360"/>
              <a:ext cx="5760" cy="15300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42" name=""/>
            <p:cNvSpPr/>
            <p:nvPr/>
          </p:nvSpPr>
          <p:spPr>
            <a:xfrm flipV="1">
              <a:off x="4876920" y="411444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441972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1 = 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91160" y="25909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1160" y="28195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3440" y="3048120"/>
              <a:ext cx="15732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86960" y="2666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67120" y="2743200"/>
              <a:ext cx="15192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0"/>
              <a:endCxn id="146" idx="0"/>
            </p:cNvCxnSpPr>
            <p:nvPr/>
          </p:nvCxnSpPr>
          <p:spPr>
            <a:xfrm>
              <a:off x="4838400" y="2895480"/>
              <a:ext cx="5400" cy="15336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 flipV="1">
              <a:off x="4843440" y="259056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2720" y="289548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0 = 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6960" y="24382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40384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27432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2680" y="42670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67080" y="25146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8280" y="24382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8280" y="26668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74600" y="39625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4600" y="41911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827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24480" y="64911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Calibri"/>
              </a:rPr>
              <a:t>I/O for Mirror adder…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29:18Z</dcterms:created>
  <dc:creator> </dc:creator>
  <dc:description/>
  <dc:language>en-US</dc:language>
  <cp:lastModifiedBy> </cp:lastModifiedBy>
  <dcterms:modified xsi:type="dcterms:W3CDTF">2011-12-01T16:46:59Z</dcterms:modified>
  <cp:revision>4</cp:revision>
  <dc:subject/>
  <dc:title>The Effectiveness of Stacked-VDD on Different Full-Adder Topologies without Voltage Regulation</dc:title>
</cp:coreProperties>
</file>